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45C-C42C-406E-A831-72FB97AA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138-4CA8-47B7-97F1-FC50E93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2629-8D60-47C2-A9D4-D8F17A8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5C29-E33F-4E86-A647-79EDDD61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BE69-B9AF-4FB0-A76B-520294C9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6081-C1EB-4FD9-A175-B552EE2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4D227-F4DB-48BB-A347-9320399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0C9F0-6039-4DDD-9E34-AF88874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DAF5-DEC1-4CD3-BE87-7C7E066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20454-234F-4C2C-BA5D-AC577D44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4CD1-4BB0-4AE5-8945-67096DFE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5BB-ECC9-4371-A11E-DD165C92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D2F-046E-438D-A27B-BD99B99C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C22B-A2EC-43ED-9FA4-4FAC4B80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03B-64A8-4434-9B7D-79AB8C85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2AD-8F82-470A-B468-2C07281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81FE-C2BC-43D5-BB19-7693300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23A-EE73-48A0-8BA2-992A70F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42C-FCC8-4366-A7E1-D76D22E8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CCC7-6583-4373-81B3-4A3CA15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D70-7CCA-4585-876F-4101627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38B7-5D75-4EAF-B94B-9ECE883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982C-30E6-47C9-9077-428689A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29BB-1099-4727-929F-9761FE7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F9A-F828-4313-BD0A-B8F14A8E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BB6D-5985-46AF-A073-C63D0797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1D64-3529-41D5-882C-1D9B1CEF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C7E5-E059-439E-B900-20D52FDF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3DC7-91E7-47CD-B312-3724ECC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AB69-8EDE-45A9-96E7-858E2C67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AD74-C29A-43A8-8D3C-B59C58CB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1E7-0617-4C6D-8D24-EA56AA4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8249-7946-4554-A379-5CD4CB4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951D-1DD3-4055-B204-1B2E8A1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7DC7-3B16-480E-9F56-36A51B2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BD28-FA4D-45C3-B0D1-AD04241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3C7A-ABB2-47CF-B93E-E3C64EE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DDD9-BCC9-49CC-8D4A-C45117F2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F8F2-C398-412E-A579-843498D2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2D93-7D1A-4E19-A3BC-40917A82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5BFB-3B1C-4EA0-9E33-58BB809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B462-2E08-40DB-8159-EBA3B11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DBA-EF5E-4AB3-AB51-6D600C7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17E7-5B46-47D9-9A11-A1F215A2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B2A4-2271-478C-8786-0C3FB7B2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F431-AC18-4C1E-B5D4-0E5EBA88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AEE4-CA2D-4244-971D-A3D5696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5311-0FB3-43A3-86D6-9E802A6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E742-A35A-4C84-B7E1-5934CF1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FE47-CD05-4F41-BF1F-FD62AEF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413B-1F1D-4D9B-9BE8-8BBE6DF8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A3B1-5EAE-443D-A2DB-71B00453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48E5-12E7-49EB-9795-DD8020EC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FE6-A4E8-42BF-BCFB-06558EF7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23D3-6B51-474B-BD7E-A382D55A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9DDE-DCC5-4302-B951-F255E008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D1FA-70EB-4565-AA66-008D4A6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402A-BB71-4EAF-A558-750F4BFC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C72D-D1DE-4189-9A02-B94DDF3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27DE-1AB6-4183-B8C0-4CD5863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3419-D441-45D6-88C0-3A2EAD5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2065-E2BB-4437-9F58-564A368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CD36-8B0B-4012-BC73-D720A30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9036-AC30-43E0-88EA-B1C26CB5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0EB-5ABB-442F-BE97-27C98B00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306E-089B-4C33-AB2D-0A00BE9E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E9F1-999E-4945-94A6-C262352B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87BCB-3790-4E61-B6FE-0BA030B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4DE8-79D8-41BF-A445-C22979BA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0448-4E00-459F-BF29-0ABB16E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80551-C7D0-4666-A878-C2B24E9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069C-662F-438D-A3E9-28A9325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7827-5441-4695-9B41-9C5212E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95EA-4637-4E28-8DEE-6BEB8B4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2F6A-D04D-4B3A-8817-6A33438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75D-D395-45BA-9700-1476CE1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2933-186D-48FB-970C-8205D6F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4D71-CBD1-457D-8DDB-FE5F623E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ACD5-C195-4756-9364-471D70A1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533F-A8F1-4294-805A-A8D58A3D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FEC9-2136-4F4D-BE0F-2492E387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1D6F-4590-4DFC-8E3A-7EACABE3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6EA2-A853-45D5-82FD-5354DC3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F361-B520-4FB1-A165-3934E54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7C4D-5A35-4B36-85AE-D848189F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5B00-F7CB-4612-8BB1-734543E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ED5-9391-46DF-947B-B41FB59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6729-CD62-4064-B226-BE14086A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59647-7E0C-4DC0-978A-FC5DDE4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0163-011D-4806-B1AC-A3E6E198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9584-E486-427D-BDAD-564DE3E6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1C09-0AD8-4552-8424-59884A5B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B310-D170-4DA4-A8C1-6A15950B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27266-34DA-4CE3-AC36-529A5AF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042C6-2ADD-4F4E-9A31-6BE7A41D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E0F4-6923-46D4-B172-BE89AE1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A72E-D5D1-42B5-9B54-69E4C3F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A63-ABB8-4FF7-ADFD-9A9DA586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85C08-472A-45EC-B1B3-9113EED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E95DE-D23C-427B-936E-CB59798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C819-6EFA-4C93-B313-95B4B92F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5527-71F2-43F4-BE3D-6D460D9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642F-AB7C-470B-A62C-6DF56C3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C273-749F-4338-B7D7-8F95601E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DE8C-C939-4336-8406-7F72D281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5DFC9-C533-4645-B234-073A224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0B48E-5C16-4102-BCF8-2825888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7A4C7-1954-44A8-A74D-BAD8DC1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58F-54DA-4609-BAE8-A77C78CA548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584-FE70-4B0F-8228-84E7F3146C9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EC9-7B87-4A71-9964-249FA59B60E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1BD-B7BB-451C-8B2B-7C8A6E5A441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501-9012-4A10-8041-CF08C50E83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1F76-8F02-480A-A731-FF7387E77C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5BC-79E6-49CD-A3CC-62FD3D6412E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6F2-95D1-41BF-A878-46491B05FAC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5DBF-1C9C-4CA3-8221-186E9094632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85840" y="1974960"/>
            <a:ext cx="8638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this project presents a new system configuration of the front-end rectifier stage for a hybrid wind/photovoltaic energy system. This configuration allows the two sources to supply the load separately or simultaneously depending on the availability of the energy sourc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34"/>
          <p:cNvGrpSpPr/>
          <p:nvPr/>
        </p:nvGrpSpPr>
        <p:grpSpPr>
          <a:xfrm>
            <a:off x="1905120" y="1828800"/>
            <a:ext cx="5410080" cy="3886200"/>
            <a:chOff x="1905120" y="1828800"/>
            <a:chExt cx="5410080" cy="3886200"/>
          </a:xfrm>
        </p:grpSpPr>
        <p:grpSp>
          <p:nvGrpSpPr>
            <p:cNvPr id="404" name="Group 23"/>
            <p:cNvGrpSpPr/>
            <p:nvPr/>
          </p:nvGrpSpPr>
          <p:grpSpPr>
            <a:xfrm>
              <a:off x="1905120" y="1828800"/>
              <a:ext cx="5410080" cy="3886200"/>
              <a:chOff x="1905120" y="1828800"/>
              <a:chExt cx="5410080" cy="3886200"/>
            </a:xfrm>
          </p:grpSpPr>
          <p:sp>
            <p:nvSpPr>
              <p:cNvPr id="405" name="Rectangle 3"/>
              <p:cNvSpPr/>
              <p:nvPr/>
            </p:nvSpPr>
            <p:spPr>
              <a:xfrm>
                <a:off x="1905120" y="2894040"/>
                <a:ext cx="10112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IC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OLLER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"/>
              <p:cNvSpPr/>
              <p:nvPr/>
            </p:nvSpPr>
            <p:spPr>
              <a:xfrm>
                <a:off x="3270240" y="2894040"/>
                <a:ext cx="9014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river Un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5"/>
              <p:cNvSpPr/>
              <p:nvPr/>
            </p:nvSpPr>
            <p:spPr>
              <a:xfrm>
                <a:off x="4837320" y="4837320"/>
                <a:ext cx="1214280" cy="877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 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6"/>
              <p:cNvSpPr/>
              <p:nvPr/>
            </p:nvSpPr>
            <p:spPr>
              <a:xfrm>
                <a:off x="1905120" y="189036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-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"/>
              <p:cNvSpPr/>
              <p:nvPr/>
            </p:nvSpPr>
            <p:spPr>
              <a:xfrm>
                <a:off x="3219480" y="1882440"/>
                <a:ext cx="95076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 –Dc rectifi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8"/>
              <p:cNvSpPr/>
              <p:nvPr/>
            </p:nvSpPr>
            <p:spPr>
              <a:xfrm>
                <a:off x="4829400" y="1828800"/>
                <a:ext cx="1170000" cy="814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9"/>
              <p:cNvSpPr/>
              <p:nvPr/>
            </p:nvSpPr>
            <p:spPr>
              <a:xfrm>
                <a:off x="4829400" y="2854080"/>
                <a:ext cx="1170000" cy="792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ac i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0"/>
              <p:cNvSpPr/>
              <p:nvPr/>
            </p:nvSpPr>
            <p:spPr>
              <a:xfrm>
                <a:off x="4837320" y="3833640"/>
                <a:ext cx="1214280" cy="801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 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6437520" y="289404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a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ight Arrow 15"/>
              <p:cNvSpPr/>
              <p:nvPr/>
            </p:nvSpPr>
            <p:spPr>
              <a:xfrm>
                <a:off x="4172040" y="3270240"/>
                <a:ext cx="657000" cy="177480"/>
              </a:xfrm>
              <a:prstGeom prst="rightArrow">
                <a:avLst>
                  <a:gd name="adj1" fmla="val 50000"/>
                  <a:gd name="adj2" fmla="val 58406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ight Arrow 17"/>
              <p:cNvSpPr/>
              <p:nvPr/>
            </p:nvSpPr>
            <p:spPr>
              <a:xfrm>
                <a:off x="2782800" y="2266920"/>
                <a:ext cx="438120" cy="155520"/>
              </a:xfrm>
              <a:prstGeom prst="rightArrow">
                <a:avLst>
                  <a:gd name="adj1" fmla="val 50000"/>
                  <a:gd name="adj2" fmla="val 583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ight Arrow 18"/>
              <p:cNvSpPr/>
              <p:nvPr/>
            </p:nvSpPr>
            <p:spPr>
              <a:xfrm>
                <a:off x="5999400" y="3208320"/>
                <a:ext cx="438120" cy="185400"/>
              </a:xfrm>
              <a:prstGeom prst="rightArrow">
                <a:avLst>
                  <a:gd name="adj1" fmla="val 50000"/>
                  <a:gd name="adj2" fmla="val 58421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Up Arrow 21"/>
              <p:cNvSpPr/>
              <p:nvPr/>
            </p:nvSpPr>
            <p:spPr>
              <a:xfrm>
                <a:off x="5343480" y="4635720"/>
                <a:ext cx="150480" cy="191880"/>
              </a:xfrm>
              <a:prstGeom prst="upArrow">
                <a:avLst>
                  <a:gd name="adj1" fmla="val 50000"/>
                  <a:gd name="adj2" fmla="val 4291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Up Arrow 22"/>
              <p:cNvSpPr/>
              <p:nvPr/>
            </p:nvSpPr>
            <p:spPr>
              <a:xfrm>
                <a:off x="5343480" y="3646440"/>
                <a:ext cx="150480" cy="179280"/>
              </a:xfrm>
              <a:prstGeom prst="upArrow">
                <a:avLst>
                  <a:gd name="adj1" fmla="val 50000"/>
                  <a:gd name="adj2" fmla="val 42934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ight Arrow 42"/>
              <p:cNvSpPr/>
              <p:nvPr/>
            </p:nvSpPr>
            <p:spPr>
              <a:xfrm>
                <a:off x="4464000" y="4149720"/>
                <a:ext cx="372960" cy="161640"/>
              </a:xfrm>
              <a:prstGeom prst="rightArrow">
                <a:avLst>
                  <a:gd name="adj1" fmla="val 50000"/>
                  <a:gd name="adj2" fmla="val 58410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Down Arrow 45"/>
              <p:cNvSpPr/>
              <p:nvPr/>
            </p:nvSpPr>
            <p:spPr>
              <a:xfrm>
                <a:off x="5343480" y="2643120"/>
                <a:ext cx="150480" cy="210960"/>
              </a:xfrm>
              <a:prstGeom prst="downArrow">
                <a:avLst>
                  <a:gd name="adj1" fmla="val 50000"/>
                  <a:gd name="adj2" fmla="val 4292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3"/>
            <p:cNvGrpSpPr/>
            <p:nvPr/>
          </p:nvGrpSpPr>
          <p:grpSpPr>
            <a:xfrm>
              <a:off x="2259000" y="2260440"/>
              <a:ext cx="2578680" cy="3184560"/>
              <a:chOff x="2259000" y="2260440"/>
              <a:chExt cx="2578680" cy="3184560"/>
            </a:xfrm>
          </p:grpSpPr>
          <p:sp>
            <p:nvSpPr>
              <p:cNvPr id="422" name="Bent Arrow 28"/>
              <p:cNvSpPr/>
              <p:nvPr/>
            </p:nvSpPr>
            <p:spPr>
              <a:xfrm rot="16200000">
                <a:off x="2684520" y="3291840"/>
                <a:ext cx="1727280" cy="25786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ight Arrow 29"/>
              <p:cNvSpPr/>
              <p:nvPr/>
            </p:nvSpPr>
            <p:spPr>
              <a:xfrm>
                <a:off x="4180320" y="2260440"/>
                <a:ext cx="657360" cy="161640"/>
              </a:xfrm>
              <a:prstGeom prst="rightArrow">
                <a:avLst>
                  <a:gd name="adj1" fmla="val 50000"/>
                  <a:gd name="adj2" fmla="val 469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Bent Arrow 31"/>
              <p:cNvSpPr/>
              <p:nvPr/>
            </p:nvSpPr>
            <p:spPr>
              <a:xfrm>
                <a:off x="4381920" y="2422080"/>
                <a:ext cx="455760" cy="18352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ight Arrow 32"/>
              <p:cNvSpPr/>
              <p:nvPr/>
            </p:nvSpPr>
            <p:spPr>
              <a:xfrm>
                <a:off x="2916360" y="3232080"/>
                <a:ext cx="353880" cy="161640"/>
              </a:xfrm>
              <a:prstGeom prst="rightArrow">
                <a:avLst>
                  <a:gd name="adj1" fmla="val 50000"/>
                  <a:gd name="adj2" fmla="val 4690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ow  operating co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asy to charg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igh   power  qual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tributed Generation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Application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tant Speed and Variable Speed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Win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nergy Conversion System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hotovoltaic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Energy Syste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. S.K. Kim, J.H Jeon, C.H. Cho, J.B. Ahn, and S.H. Kwon, “Dynami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Modeling and Control of a Grid-Connected Hybrid Generation Syste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with Versatile Power Transfer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EEE Transactions on Industria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lectronics, vol. 55, pp. 1677-1688, April 2008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. D. Das, R. Esmaili, L. Xu, D. Nichols, “An Optimal Design of a Gri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onnected Hybrid Wind/Photovoltaic/Fuel Cell System for Distribu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ergy Production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Proc. IEEE Industrial Electronics Confer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p. 2499-2504, Nov. 2005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1:17:45Z</dcterms:created>
  <dc:creator/>
  <dc:description>Electrical Projects</dc:description>
  <dc:language>en-US</dc:language>
  <cp:lastModifiedBy>Brigade</cp:lastModifiedBy>
  <dcterms:modified xsi:type="dcterms:W3CDTF">2011-08-23T17:25:38Z</dcterms:modified>
  <cp:revision>0</cp:revision>
  <dc:subject>Electrical Projects</dc:subject>
  <dc:title>EEE IEEE Projects</dc:title>
</cp:coreProperties>
</file>